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938-C865-4854-8BDC-A9119FC4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367B-0DDB-4003-B0BF-623ABAE4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76FD-0B65-4F07-B205-6CDF75C1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E86F-80AB-481D-9512-362CF378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C65F-B845-4D71-AB61-A9EAB584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D483-3081-4C03-A42D-FA4CE0AA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DF82-35DA-491A-9383-A639A897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B51E-1B91-4166-B2BB-AD91B96B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5FD9-75F9-4DFF-9D10-452E8053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A98F-8BC4-4484-B19A-1446D46B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537E-8EF9-4823-AC27-5CF4FA32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8D61-18B8-455B-AA0C-9D8118D1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A25D-44E5-4CD2-ACBD-F23C908C7B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75240" y="762120"/>
            <a:ext cx="370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分数的基本性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08360" y="2852640"/>
            <a:ext cx="1676520" cy="1524240"/>
          </a:xfrm>
          <a:prstGeom prst="flowChar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934320" y="4191120"/>
            <a:ext cx="1752480" cy="1536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48680" y="5715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浙江省慈溪市文棋小学　周尧其制作　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03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1052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915640" y="67644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把下面的分数化成分母是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而大小不变的分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43000" y="2286000"/>
                <a:ext cx="2919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048120" y="2286000"/>
                <a:ext cx="2667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876920" y="2286000"/>
                <a:ext cx="3934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934320" y="2286000"/>
                <a:ext cx="4316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60800" y="914400"/>
            <a:ext cx="28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把下面的分数化成分子是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而大小不变的分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219320" y="2743200"/>
                <a:ext cx="3934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200400" y="2743200"/>
            <a:ext cx="469800" cy="88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181480" y="2743200"/>
                <a:ext cx="4701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162920" y="2743200"/>
                <a:ext cx="4442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236480" y="60948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、在下面分数中找出相等的分数，用线连起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009800" y="2590920"/>
                <a:ext cx="2538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209680" y="2590920"/>
                <a:ext cx="4446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505320" y="2590920"/>
                <a:ext cx="3934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876920" y="2590920"/>
                <a:ext cx="2538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095880" y="2590920"/>
                <a:ext cx="4446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7467480" y="2590920"/>
                <a:ext cx="432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7" name=""/>
          <p:cNvGrpSpPr/>
          <p:nvPr/>
        </p:nvGrpSpPr>
        <p:grpSpPr>
          <a:xfrm>
            <a:off x="1143000" y="3581280"/>
            <a:ext cx="5181480" cy="762120"/>
            <a:chOff x="1143000" y="3581280"/>
            <a:chExt cx="5181480" cy="762120"/>
          </a:xfrm>
        </p:grpSpPr>
        <p:sp>
          <p:nvSpPr>
            <p:cNvPr id="178" name=""/>
            <p:cNvSpPr/>
            <p:nvPr/>
          </p:nvSpPr>
          <p:spPr>
            <a:xfrm>
              <a:off x="1143000" y="3581280"/>
              <a:ext cx="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43000" y="4343400"/>
              <a:ext cx="5181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24480" y="3581280"/>
              <a:ext cx="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438280" y="3581280"/>
            <a:ext cx="2590920" cy="381240"/>
            <a:chOff x="2438280" y="3581280"/>
            <a:chExt cx="2590920" cy="381240"/>
          </a:xfrm>
        </p:grpSpPr>
        <p:sp>
          <p:nvSpPr>
            <p:cNvPr id="182" name=""/>
            <p:cNvSpPr/>
            <p:nvPr/>
          </p:nvSpPr>
          <p:spPr>
            <a:xfrm>
              <a:off x="2438280" y="35812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38280" y="3962520"/>
              <a:ext cx="2590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29200" y="3581280"/>
              <a:ext cx="0" cy="38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657600" y="2057400"/>
            <a:ext cx="4038480" cy="457200"/>
            <a:chOff x="3657600" y="2057400"/>
            <a:chExt cx="4038480" cy="457200"/>
          </a:xfrm>
        </p:grpSpPr>
        <p:sp>
          <p:nvSpPr>
            <p:cNvPr id="186" name=""/>
            <p:cNvSpPr/>
            <p:nvPr/>
          </p:nvSpPr>
          <p:spPr>
            <a:xfrm>
              <a:off x="3657600" y="2057400"/>
              <a:ext cx="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57600" y="2057400"/>
              <a:ext cx="4038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96080" y="2057400"/>
              <a:ext cx="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in" orient="horz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859480" y="38088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在圆圈里填上分母、分子都不同的分数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使它们都与中间的分数相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09680" y="2209680"/>
            <a:ext cx="4038480" cy="3581640"/>
            <a:chOff x="2209680" y="2209680"/>
            <a:chExt cx="4038480" cy="3581640"/>
          </a:xfrm>
        </p:grpSpPr>
        <p:sp>
          <p:nvSpPr>
            <p:cNvPr id="191" name=""/>
            <p:cNvSpPr/>
            <p:nvPr/>
          </p:nvSpPr>
          <p:spPr>
            <a:xfrm>
              <a:off x="3809880" y="358128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42840" y="259092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76560" y="251460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52880" y="449568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42840" y="441972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33760" y="350532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09880" y="220968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09680" y="350532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09880" y="487692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67080" y="3124080"/>
              <a:ext cx="0" cy="381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67080" y="4495680"/>
              <a:ext cx="0" cy="381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81280" y="3429000"/>
              <a:ext cx="304560" cy="304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47960" y="4343400"/>
              <a:ext cx="380880" cy="304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647600" y="3352680"/>
              <a:ext cx="304920" cy="381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3581280" y="4343400"/>
              <a:ext cx="304560" cy="304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24080" y="3962520"/>
              <a:ext cx="685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24280" y="4038480"/>
              <a:ext cx="6094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133880" y="2209680"/>
                <a:ext cx="2538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200560" y="2514600"/>
                <a:ext cx="254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734080" y="3511440"/>
                <a:ext cx="2412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276880" y="4502160"/>
                <a:ext cx="2538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057560" y="4883040"/>
                <a:ext cx="393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990880" y="4419720"/>
                <a:ext cx="393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457360" y="3505320"/>
                <a:ext cx="393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114800" y="3581280"/>
                <a:ext cx="39384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971800" y="2590920"/>
                <a:ext cx="4316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001760" y="6825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思考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87960" y="2101680"/>
            <a:ext cx="593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如果        的分子加上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，要使这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分数的大小不变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分母应加上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          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说出想的过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745000" y="1828800"/>
            <a:ext cx="637920" cy="977760"/>
            <a:chOff x="2745000" y="1828800"/>
            <a:chExt cx="637920" cy="977760"/>
          </a:xfrm>
        </p:grpSpPr>
        <p:sp>
          <p:nvSpPr>
            <p:cNvPr id="220" name=""/>
            <p:cNvSpPr/>
            <p:nvPr/>
          </p:nvSpPr>
          <p:spPr>
            <a:xfrm>
              <a:off x="2745000" y="19810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__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7280" y="228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97280" y="1828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7011000" y="2590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28600" y="53352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说出下面各式的商，并说出这样做的根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91600" y="1295280"/>
            <a:ext cx="24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150÷50=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6160" y="2209680"/>
            <a:ext cx="56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150×2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）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÷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50×2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）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41120" y="3124080"/>
            <a:ext cx="565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150÷2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）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÷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50÷2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）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32120" y="4038480"/>
            <a:ext cx="56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150×5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）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÷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50×5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）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41120" y="4952880"/>
            <a:ext cx="565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150÷5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）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÷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50÷5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）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1360" y="2209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1360" y="49528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40384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11360" y="31240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36440" y="1697040"/>
            <a:ext cx="83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被除数　　除数　　　　　　　　　　　　　　　　　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1337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　　都乘以或者都除以相同的数（０除外）　　　不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3623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2362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2760" y="2438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数的大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477120" y="2209680"/>
                <a:ext cx="3301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676520" y="2362320"/>
            <a:ext cx="4519440" cy="60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477120" y="3581280"/>
                <a:ext cx="317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752480" y="3809880"/>
            <a:ext cx="4502160" cy="604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400800" y="4952880"/>
                <a:ext cx="5461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752480" y="5181480"/>
            <a:ext cx="4505400" cy="601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457200"/>
                <a:ext cx="723888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例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、比较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、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和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的大小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-457200" y="990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分数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分子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分母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都乘以或者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除以相同的数（０除外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分数的大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不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54520" y="2924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叫做分数的基本性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144320" y="685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根据分数的基本性质，把下列分数的变化过程写完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71680" y="2139840"/>
                <a:ext cx="31366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952880" y="2133720"/>
                <a:ext cx="32385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80880" y="3962520"/>
                <a:ext cx="34290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800600" y="4038480"/>
                <a:ext cx="34290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1231920" y="205740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×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31920" y="259092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×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880" y="25909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51280" y="205740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×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51280" y="259092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×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9600" y="20574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11840" y="388620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÷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58840" y="44197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4÷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2880" y="441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78560" y="39625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5÷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78560" y="44956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0÷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16280" y="3962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272480" y="55872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在下面的括号里填上适当的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838080" y="1981080"/>
                <a:ext cx="12826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19520" y="1981080"/>
                <a:ext cx="14349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800600" y="1981080"/>
                <a:ext cx="14349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858000" y="1981080"/>
                <a:ext cx="12700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863640" y="4197240"/>
                <a:ext cx="12319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927520" y="4197240"/>
                <a:ext cx="14094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902120" y="4197240"/>
                <a:ext cx="12319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730920" y="4273560"/>
                <a:ext cx="14097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1524960" y="1905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8680" y="1905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9760" y="1905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91880" y="19051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8280" y="4648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960" y="4648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800" y="46483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44880" y="4724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711440" y="812880"/>
            <a:ext cx="581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把      和      分别化成分母是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，而大小不变的分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35160" y="457200"/>
            <a:ext cx="485640" cy="1038600"/>
            <a:chOff x="2135160" y="457200"/>
            <a:chExt cx="485640" cy="1038600"/>
          </a:xfrm>
        </p:grpSpPr>
        <p:sp>
          <p:nvSpPr>
            <p:cNvPr id="106" name=""/>
            <p:cNvSpPr/>
            <p:nvPr/>
          </p:nvSpPr>
          <p:spPr>
            <a:xfrm>
              <a:off x="2135160" y="7621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211120" y="457200"/>
              <a:ext cx="384840" cy="1038600"/>
              <a:chOff x="2211120" y="457200"/>
              <a:chExt cx="384840" cy="1038600"/>
            </a:xfrm>
          </p:grpSpPr>
          <p:sp>
            <p:nvSpPr>
              <p:cNvPr id="108" name=""/>
              <p:cNvSpPr/>
              <p:nvPr/>
            </p:nvSpPr>
            <p:spPr>
              <a:xfrm>
                <a:off x="2211120" y="9144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11120" y="4572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2819880" y="457200"/>
            <a:ext cx="589320" cy="1038600"/>
            <a:chOff x="2819880" y="457200"/>
            <a:chExt cx="589320" cy="1038600"/>
          </a:xfrm>
        </p:grpSpPr>
        <p:sp>
          <p:nvSpPr>
            <p:cNvPr id="111" name=""/>
            <p:cNvSpPr/>
            <p:nvPr/>
          </p:nvSpPr>
          <p:spPr>
            <a:xfrm>
              <a:off x="2897280" y="7621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819880" y="457200"/>
              <a:ext cx="589320" cy="1038600"/>
              <a:chOff x="2819880" y="457200"/>
              <a:chExt cx="589320" cy="1038600"/>
            </a:xfrm>
          </p:grpSpPr>
          <p:sp>
            <p:nvSpPr>
              <p:cNvPr id="113" name=""/>
              <p:cNvSpPr/>
              <p:nvPr/>
            </p:nvSpPr>
            <p:spPr>
              <a:xfrm>
                <a:off x="2819880" y="91440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2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19880" y="457200"/>
                <a:ext cx="58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1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1371600" y="1905120"/>
            <a:ext cx="2011320" cy="888840"/>
            <a:chOff x="1371600" y="1905120"/>
            <a:chExt cx="2011320" cy="888840"/>
          </a:xfrm>
        </p:grpSpPr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1371600" y="1905120"/>
                  <a:ext cx="266760" cy="88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7" name=""/>
            <p:cNvSpPr/>
            <p:nvPr/>
          </p:nvSpPr>
          <p:spPr>
            <a:xfrm>
              <a:off x="1677600" y="2133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82880" y="213372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———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133720" y="2362320"/>
            <a:ext cx="10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×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23360" y="182880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×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354120" y="1911240"/>
            <a:ext cx="652680" cy="876240"/>
            <a:chOff x="3354120" y="1911240"/>
            <a:chExt cx="652680" cy="876240"/>
          </a:xfrm>
        </p:grpSpPr>
        <p:sp>
          <p:nvSpPr>
            <p:cNvPr id="122" name=""/>
            <p:cNvSpPr/>
            <p:nvPr/>
          </p:nvSpPr>
          <p:spPr>
            <a:xfrm>
              <a:off x="3354120" y="2133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3753000" y="1911240"/>
                  <a:ext cx="25380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4" name=""/>
          <p:cNvGrpSpPr/>
          <p:nvPr/>
        </p:nvGrpSpPr>
        <p:grpSpPr>
          <a:xfrm>
            <a:off x="1314360" y="3886200"/>
            <a:ext cx="2068560" cy="876240"/>
            <a:chOff x="1314360" y="3886200"/>
            <a:chExt cx="2068560" cy="876240"/>
          </a:xfrm>
        </p:grpSpPr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1314360" y="3886200"/>
                  <a:ext cx="44460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6" name=""/>
            <p:cNvSpPr/>
            <p:nvPr/>
          </p:nvSpPr>
          <p:spPr>
            <a:xfrm>
              <a:off x="1753920" y="4114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82880" y="411480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———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150280" y="42670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4÷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0280" y="37339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6÷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277800" y="3892680"/>
            <a:ext cx="729000" cy="876240"/>
            <a:chOff x="3277800" y="3892680"/>
            <a:chExt cx="729000" cy="876240"/>
          </a:xfrm>
        </p:grpSpPr>
        <p:sp>
          <p:nvSpPr>
            <p:cNvPr id="131" name=""/>
            <p:cNvSpPr/>
            <p:nvPr/>
          </p:nvSpPr>
          <p:spPr>
            <a:xfrm>
              <a:off x="3277800" y="4114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3753000" y="3892680"/>
                  <a:ext cx="25380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cover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33880" y="914400"/>
            <a:ext cx="627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试一试  把       和       分别化成分子是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的分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10400" y="457200"/>
            <a:ext cx="791280" cy="1526400"/>
            <a:chOff x="2210400" y="457200"/>
            <a:chExt cx="791280" cy="1526400"/>
          </a:xfrm>
        </p:grpSpPr>
        <p:sp>
          <p:nvSpPr>
            <p:cNvPr id="135" name=""/>
            <p:cNvSpPr/>
            <p:nvPr/>
          </p:nvSpPr>
          <p:spPr>
            <a:xfrm>
              <a:off x="2211480" y="9907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—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10400" y="1219320"/>
              <a:ext cx="74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3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63400" y="45720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507120" y="457200"/>
            <a:ext cx="816480" cy="1526400"/>
            <a:chOff x="3507120" y="457200"/>
            <a:chExt cx="816480" cy="1526400"/>
          </a:xfrm>
        </p:grpSpPr>
        <p:sp>
          <p:nvSpPr>
            <p:cNvPr id="139" name=""/>
            <p:cNvSpPr/>
            <p:nvPr/>
          </p:nvSpPr>
          <p:spPr>
            <a:xfrm>
              <a:off x="3507120" y="9907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—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82000" y="1219320"/>
              <a:ext cx="74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2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58680" y="45720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857160" y="2597040"/>
            <a:ext cx="2297160" cy="876240"/>
            <a:chOff x="857160" y="2597040"/>
            <a:chExt cx="2297160" cy="876240"/>
          </a:xfrm>
        </p:grpSpPr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857160" y="2597040"/>
                  <a:ext cx="43200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4" name=""/>
            <p:cNvSpPr/>
            <p:nvPr/>
          </p:nvSpPr>
          <p:spPr>
            <a:xfrm>
              <a:off x="1373040" y="281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54280" y="281952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———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946880" y="2362320"/>
            <a:ext cx="96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÷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17920" y="3048120"/>
            <a:ext cx="122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0÷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125520" y="2597040"/>
            <a:ext cx="563760" cy="876240"/>
            <a:chOff x="3125520" y="2597040"/>
            <a:chExt cx="563760" cy="876240"/>
          </a:xfrm>
        </p:grpSpPr>
        <p:sp>
          <p:nvSpPr>
            <p:cNvPr id="149" name=""/>
            <p:cNvSpPr/>
            <p:nvPr/>
          </p:nvSpPr>
          <p:spPr>
            <a:xfrm>
              <a:off x="3125520" y="281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3448080" y="2597040"/>
                  <a:ext cx="24120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1" name=""/>
          <p:cNvGrpSpPr/>
          <p:nvPr/>
        </p:nvGrpSpPr>
        <p:grpSpPr>
          <a:xfrm>
            <a:off x="857160" y="4273560"/>
            <a:ext cx="2144520" cy="876240"/>
            <a:chOff x="857160" y="4273560"/>
            <a:chExt cx="2144520" cy="876240"/>
          </a:xfrm>
        </p:grpSpPr>
        <p:sp>
          <p:nvSpPr>
            <p:cNvPr id="152" name=""/>
            <p:cNvSpPr/>
            <p:nvPr/>
          </p:nvSpPr>
          <p:spPr>
            <a:xfrm>
              <a:off x="1601640" y="4495680"/>
              <a:ext cx="14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———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96720" y="4495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857160" y="4273560"/>
                  <a:ext cx="43200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5" name=""/>
          <p:cNvSpPr/>
          <p:nvPr/>
        </p:nvSpPr>
        <p:spPr>
          <a:xfrm>
            <a:off x="1794600" y="4038480"/>
            <a:ext cx="96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÷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65640" y="4724280"/>
            <a:ext cx="122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8÷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973240" y="4273560"/>
            <a:ext cx="576360" cy="876240"/>
            <a:chOff x="2973240" y="4273560"/>
            <a:chExt cx="576360" cy="876240"/>
          </a:xfrm>
        </p:grpSpPr>
        <p:sp>
          <p:nvSpPr>
            <p:cNvPr id="158" name=""/>
            <p:cNvSpPr/>
            <p:nvPr/>
          </p:nvSpPr>
          <p:spPr>
            <a:xfrm>
              <a:off x="2973240" y="4495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3295800" y="4273560"/>
                  <a:ext cx="25380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cover dir="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2T11:11:30Z</dcterms:created>
  <dc:creator>zyq</dc:creator>
  <dc:description/>
  <dc:language>en-US</dc:language>
  <cp:lastModifiedBy>zyq</cp:lastModifiedBy>
  <dcterms:modified xsi:type="dcterms:W3CDTF">2003-04-29T10:31:53Z</dcterms:modified>
  <cp:revision>69</cp:revision>
  <dc:subject/>
  <dc:title>PowerPoint 演示文稿</dc:title>
</cp:coreProperties>
</file>